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C30-1642-47FC-8F1A-C2350611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BBF-A45B-4E8F-9626-0D7FA5C0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EAE-0834-404E-A05C-2FDC1FA4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08C-1416-462F-9117-62AE3CB5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4DC-0EFB-4FD5-8857-18833E5C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05E-1AD8-4CE6-AAB4-EB0A890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652-DCFA-439B-B6D4-1AAE308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5CF-6D11-4414-9A63-072235EF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6AF-8BD1-4B41-B4DB-3BD901BA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026-6825-4DDA-B4A0-CA3AAA9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E5B-4C10-458D-8820-ABB1ED5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1FA-E877-4D64-8E63-D5830A6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1B4B-2286-45B5-B06C-59E5A1A713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 Remnant shall Retur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 Lesson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87-94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76720"/>
            <a:ext cx="73915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ables turned on Haman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Esther 6:1-14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while King Ahasuerus has a sleepless 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commands the record of daily events be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reading king hears -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decai exposed a plot to save his life                                                                                                -Mordecai did not receive any dignity or ho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an was asked what he would do for a ma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would like to hon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an thinking it was him said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ear king’s royal apparel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ide king’s own h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princes go before proclaiming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ables turned on Haman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(Esther 6:1-14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440" y="22093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commands Haman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pparel and horse and dress Mordec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him to ride through the stre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before him and proclaim “This is what the king does to the man he delights to hono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wards Haman covers his head and hurries home in mo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calls Haman to come quickly to the second banqu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8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aman is slain (Esther 7:1-10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asks Esther at banquet - what is your requ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her replied: I and my people have been sold t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suerus, in anger demands -  who would do th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dversary, enemy, even this wicked Ham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suerus in his wrath goes to the garden and returns to find Haman on the couch with Esther, begging for his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man was hanged on the gallows built for Mordeca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Jews avenge their enemies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8:1-10:3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600" y="243792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 is given Haman’s e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is given the king’s signet ring and Haman’s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’s decree could not be revoked – 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sends out letter declaring the Jews may kill, destroy, annihilate any people that might attack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appointed day the Jews killed 10 of Haman’s sons and over 75,000 of their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ws celebrate this event with a feast called Pu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(Book of Esther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209680"/>
            <a:ext cx="79250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Setting of Story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untr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Persia - the present powerful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Rule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Zerxes, title-Ahasuerus, with Vashti his Qu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484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lac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usha the pa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Even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Great Feast that lasted seve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uests drank royal wine from golden vessel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33520" y="1981080"/>
            <a:ext cx="8076960" cy="7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hasuerus put away Vashti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1:1-22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suerus becomes tipsy with wine on the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ommands Queen Vashti to show her beauty to the people and the pri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Vashti refuses the king’s comm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and his advisors put out decree that all wives should show honor to hus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Vashti is put away from king and her royal 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057400"/>
            <a:ext cx="8001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ther becomes Queen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2:1-18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 young virgins from all provinces are brought to Shushan the pa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, a Jew in Shushan, was raising his cousin Esther as his own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, being fair and beautiful, was brought in with the other maidens chosen for the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suerus favored Esther above all others and made her his new queen, not knowing she was a J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057400"/>
            <a:ext cx="78487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rdecai saves the King’s life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2:19-23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sat at the king’s gate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overhears a plot to kill Ahasu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tells Esther who in turn tells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suerus in Mordecai’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lotters were hanged and a record of the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air was written in the Persian chron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057400"/>
            <a:ext cx="784872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aman plots to kill the Jews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3:1-15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was in a position above all other princes and all the king’s servants bowed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decai refuses to bow to H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learning Mordecai was a Jew  determined to kill the whole Jewish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convinced Ahasuerus to issue decree to destroy the Jews completely in about a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09480" y="1981080"/>
            <a:ext cx="7925040" cy="763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sther intercedes with the King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4:1-7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decai learns the horrible news, then puts on sackcloth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decai tells Queen Esther she must intercede with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even if against the law and puts her life in peril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her goes into the king and he extends his sce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her makes two requests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the king and Haman come to a feast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orrow may they return for a second banqu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Story of Esthe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aman plans to destroy Mordecai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Esther 5:9-14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was honored to eat at the king’s fe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again sees Mordecai at king’s gate refusing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w to hi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was furious and devise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an builds a 75 foot gallows to hang Mordecai the following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057400"/>
            <a:ext cx="792504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02:21:00Z</dcterms:created>
  <dc:creator>John Vines</dc:creator>
  <dc:description/>
  <dc:language>en-US</dc:language>
  <cp:lastModifiedBy>Frank D Vines</cp:lastModifiedBy>
  <dcterms:modified xsi:type="dcterms:W3CDTF">2006-06-12T16:44:51Z</dcterms:modified>
  <cp:revision>33</cp:revision>
  <dc:subject/>
  <dc:title>A Remnant shall Return</dc:title>
</cp:coreProperties>
</file>